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353C-1755-4DB3-83FB-F1D4090B9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. I am going to warm the audience up with a background of my topic and some interesting stat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’m done talking about my findings and research, I am going to wrap up my main points and summarize my whol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working on a conclusio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working on a conclus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going to bring up the main points that need to be discussed and the order I am going to do it in (Prevention and awareness). High schools aren’t taking high school injuries and aren’t prepared for these inju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’m done introducing my topic and some background information I am going to provide context. I am going to talk about personal stories that I want to share with the audience about my injuries in high school athletics and some of my friends injuries that have affected their high school care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slide th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 am going to start talking about my findings. I will talk about how these injuries are increasing due to the lack of parental and student awareness, professional care and physical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4A8-850B-4261-B73D-802720FC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4C9-DAD4-4CE2-97A8-23D90EE5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CD3-62F4-489F-874E-A3A446CC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4DC-A606-4633-8967-05E0313E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D37-47DF-426A-9BCD-316E5466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A88-A675-47F1-A0A2-34FAF53B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3662-8D40-421F-A27A-4426E12C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E9A-4C6B-49A0-B05F-F6BD4787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47F-2190-4245-87EB-F5FB2691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DDA-FC98-4227-BF5F-DD37CB6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0E6-8A6D-49AA-8635-F20F1C3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B35-0626-40EC-BF83-98EFDC92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E13-C175-460C-8DBF-6FF6B3D68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920"/>
            <a:ext cx="647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“…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,000,000 injuries, 500,000 doctors visits and 30,000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spitalization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nuall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1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alth Bl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blogs.consumerreports.org/‌health/‌2009/‌09/‌high...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Practice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w York Ti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ell.blogs.nytimes.com/‌tag/‌concussions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2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w York Ti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ell.blogs.nytimes.com/‌tag/‌concussions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race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drugs.com/‌news/‌high-school-sports-put-players-risk-severe-injuries-19691.html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chool Athletic Training 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llege Sports Scholarshi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collegesportsscholarships.com/‌sports-medicine-athletic-staff-training.htm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1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alth Bl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blogs.consumerreports.org/‌health/‌2009/‌09/‌high...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Practice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w York Ti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ell.blogs.nytimes.com/‌tag/‌concussions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2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w York Ti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ell.blogs.nytimes.com/‌tag/‌concussions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race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drugs.com/‌news/‌high-school-sports-put-players-risk-severe-injuries-19691.html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chool Athletic Training 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llege Sports Scholarshi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collegesportsscholarships.com/‌sports-medicine-athletic-staff-training.htm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3:33:00Z</dcterms:created>
  <dc:creator>106094hss</dc:creator>
  <dc:description/>
  <dc:language>en-US</dc:language>
  <cp:lastModifiedBy>106094hss</cp:lastModifiedBy>
  <dcterms:modified xsi:type="dcterms:W3CDTF">2009-12-18T12:39:40Z</dcterms:modified>
  <cp:revision>8</cp:revision>
  <dc:subject/>
  <dc:title>Slide 1</dc:title>
</cp:coreProperties>
</file>